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E56-485A-4480-83E6-E582EE51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1C1-1F22-437A-B102-91AC625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76973-8B32-4985-8FE2-EE5E2E0F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74E6A-4FFF-475B-8CDA-83CE2DDA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D0F75-8F54-4389-811C-864D7BEB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5D07F-163C-4F60-A1DC-D21C007E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29FCB-0858-4C6E-BCAE-0F66E3CC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96E7F-BA11-4697-B1E3-B3F6B1EE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C1289-9E09-4312-BBE0-A2B9EEE7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E9407-8532-4788-B37F-0B22A5B4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97F14-815B-4D59-8255-8B391654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00FF9-00F0-4660-B6D9-FC4F97AD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2D5-3766-4891-A6DA-19435D77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86295-AD94-486C-9F71-F777B063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38CC6-020A-4F85-9336-69B9C46D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73A63-1F60-45C3-935D-5E8F883E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8ABB5-1940-43CB-9167-D4957DD2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F4499-996B-4AA6-8537-5ACEC887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328B3-69FC-439B-89DB-E75BBA24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DDC12-3BC0-4AB6-9A16-2F0A6C48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F44BA-FFBE-4B7E-BAD7-6AF92927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D70BD-1B5F-4AB8-9904-79C33175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57B2A-6C05-4CB9-BEA6-7F9597B0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DE0-5C37-4586-B4C7-C25EF334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C924B-F8F7-42D5-8978-B3485304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6BB81-5673-43BF-9839-5A7993F6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C2966-2EB8-42D6-B6F3-82B3F451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3DE81-4061-47D3-8778-C9CD4E7B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B6DCC-18F1-40A1-A5F1-39600428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A1101-A54A-4650-9690-945C5FDB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9ECCE-C317-488E-B665-3CE75469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C691A-218A-4072-B8CE-87284235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AF6E0-D915-434E-9862-5D21AFFE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E49C4-E32C-434C-866A-5498F4DB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98A5-D287-4F28-92CE-01504E24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73960-4CCE-4CD4-BE36-3B739728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3B366-0E91-49FE-8974-24EB4C9E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38364-F91A-472C-9EC5-A980D06E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7D26F-4F27-48FB-87FB-B9715481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AAF8C-4AFA-4DB7-8CCA-38EE0A97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CEF34-655F-4A2F-8AC1-2254A2B1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A5D04-1108-4825-9067-129DCD3A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5D148-7915-4F82-9BF2-571B7502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96C59-50A9-427C-9DC2-80DEC723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AE7B6-A71E-4FD5-A221-3B23AA9C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3CFB-65DA-40F8-AB57-AEBE6948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7463B-4BDA-497B-B340-D313C930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A5DC6-636F-455A-90EA-7090BD06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C647F-43A3-4B23-B6BD-3DF56A54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E581A-CE10-4FDA-861A-8C6131B1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78A99-C2AA-4BD0-A3A7-9DAAEAA7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CA125-0CA1-4EA7-9118-FED938D8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25320-DD23-4B6A-B3EA-C0B09450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1DF07-8E87-4454-A389-A3E7EE8E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13196-0C7C-43EC-A8C9-182F1095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1B0F1-64A6-4516-BDB2-37E9FB98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E2DA-36A3-4001-B0FC-F3D1A263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3D34E-8848-40E4-8D23-3DA0D73C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14B0C-CD13-44C7-9D03-7EEE726A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667F1-99C9-48D1-A16A-BAB6A916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9FEF0-2383-48F0-A257-4C3DDC03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190E4-0E73-4377-987F-5C60AEF2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6EE8F-1E41-44E3-8FF5-379CEB4E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485B2-7F28-4DB6-89F0-5929AB95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2FE80-9FB2-4398-84EB-320FBBA8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E5684-E048-4320-AD21-D54E69D1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E2DD5-9CDE-45F6-812B-7D8A4313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5190-D757-4F75-A75E-4BA0A3B1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82599-DC99-4917-86C9-8E356980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F23A9-3801-4C93-B691-AD39CDC4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3789A-3CC9-4450-99AC-4A292E6F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69F96-5121-4AED-9D20-7C839AA2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D745F-E795-405B-876E-FC402472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B44A3-A749-44CF-8A02-9560814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0A97D-ED35-4A23-A24B-BA312EA2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A3DE6-D3B4-414F-A103-36418AA3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121D5-69BF-473C-9A74-BD9C7194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1A8B68-16C1-48C0-ABC3-17F5DAFC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F8AB-FE44-4425-89BD-5FF50064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493E3-5089-4D53-BAF5-6164031C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8E377-1A3E-47A7-A264-68F55130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C2E04-BE2E-4571-A0FE-48DFC5FD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6FB44-0B21-4A1F-8864-E192B153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B5A0D-93B7-47CE-B544-08D91B2B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038EE-4D31-4661-A86C-F3A71E9D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C6A68-DCC4-4072-8CBD-EC9B6777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14456-82F7-4C58-8142-85BE0E95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DA4EB-3FEA-44FC-90E8-AC3912D3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2F0B0-0F23-4DE2-B71A-EE56DD71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DD20-21EF-4FC0-9B8F-91AFE92A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C9AC4-D4F9-43D2-A9EB-50270815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87632-8FD1-43F7-9B37-9B8C8487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7A31E-6B02-45C9-BCCA-C4CD4801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13A50-0DBC-459F-8DC1-96D80400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4CDAD-872F-45E4-9349-41975499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B1124-1A34-422B-8A78-377E070D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993234-7CDC-4C42-A981-D17DF417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395F0-03A2-4D65-B5F4-BBF67BCD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91C74-943F-4C7A-9589-AC8F8DA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4BD40-C739-4A50-9B80-0D939C87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183E-74B3-442B-82E1-A17E8E67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554028-75BB-4DCF-83BD-0449B6FE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64DF0-215C-4AE6-B8A9-92B40738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51F46-AAA8-4D05-9F02-B7DD7366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26928D-04CC-4A35-946F-16298DF7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D5EC7-55BB-4B11-BDDF-D9DB7390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E949C6-3448-427E-84D2-EE5C8E4E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2A790-3097-4B4D-8CBD-B1038934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B943AF-FBD4-472F-89CF-D2858E86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A7531-588B-4AAB-86CB-C65DCC88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7EADC-4A7E-4825-8DE8-56E3F53B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9E8-B454-4B8B-A9D5-D083D6F3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2DF4-0173-4107-B115-4C029598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0D9708-B11E-480F-85D0-A46036A6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93BC69-A469-4095-A3B6-0D2A2E1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59BCCF-9815-47A7-A58B-29657BDF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88EA3-FE79-4B7B-97B5-FA087609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72AAD-1A46-4D93-B06A-E01C44DB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BBAE-CD58-4E9A-BD9D-031D4C07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EC4D-D34A-4A94-8B3B-1B66B6C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BCB6-5A44-45E2-A442-BFD4DBB9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8E06-B31B-4EB9-B76C-E22713AD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978A-9962-4D5F-A1CD-F07348E2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7182-C2F4-4ACC-80FA-1D42AF7B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5492-8772-45F0-BC0B-DCDD779B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F094-EB17-437F-BB69-95E4324D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4D6F-9968-4C52-857E-DD063CF0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BF2-BD1D-411B-9077-32AAE447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50C9-69D6-455B-8765-84EB896B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5071-E6A1-4040-AA56-B74B8990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3CF2-BB67-4C4D-84B9-69CECF16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CA22-9104-41EA-84CD-089F94F2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D0C3-5C63-483A-9E86-859E0241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266A-F9E5-4390-9074-EAE80D26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4CC3F-3DB9-4944-96B2-152E1C55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FE7D7-BC50-4324-ABBC-C8ADC14B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CFB39-DE57-423E-AC05-7C780363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0BF2-1ACD-4762-9711-5399409C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55A-7F78-45A1-9EFF-F0E500C2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5B7A1-1916-416E-8060-2C71A1C2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450CF-A01A-4398-B6D5-30569B93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9C9DB-B61E-42DF-96C4-AB5CEE7F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C81CF-CAF5-46FA-B3BB-28CB7A63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18FE0-77CE-41F0-A9BD-55C04A4C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16EF5-8F0E-4804-A271-259678C5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8A97-6735-437A-B29A-7D263D59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0B5F2-7EDC-4DA2-885B-12C1DBB5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BAC7B-2539-4878-BAB8-77F34A91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A289B-200A-45BE-8BFA-89AA7DBF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714-78D3-4007-99AF-0EB45027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75939-511C-464C-ABAE-B56EDE9F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9787C-D3FD-45B3-B881-6C6CC0C9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8DC0B-3EF6-48E4-B78F-CCC91549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2BF71-4067-4BF9-AECA-9C910F9A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678E9-B733-4B71-81AE-F3DEA205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FC271-3F55-4C40-B6D0-8E8FDE6B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09DA2-BB58-4E21-AEFC-E242D5FD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55677-A8CD-4055-B1D3-FE9DEA85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5597D-E17B-420D-86D9-EBDA387F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086F1-0BDD-462D-80E0-57501B90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ED9-4C59-4159-9D62-00229630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FF5B-9255-4894-80AC-E7E375C1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9AB59-A472-4155-977A-C010756A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7000F-1904-4B10-91D5-F5D7F1A8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996B2-C6FD-4A83-BDF5-9FD005AF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C67F6-B796-448A-BF0D-12077FB3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ED469-4C54-4603-A88F-F2974D97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9A817-F27E-4814-8BDB-A16D578E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CA722-AA08-471A-8310-4D498428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F8D9F-CB2F-479C-B7FA-9FA3B8FF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E6F5F-B0B8-424D-BABB-0BD27C19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698-23E5-4436-B56E-B0FC2D6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5504B-BD72-440C-88F9-11A113F6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2BE79-27FC-4D24-A47F-C6CB5863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D6890-99BB-418B-BBE2-056DE3C7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A6362-D77D-485D-B2DD-B548DAB9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2C234-B189-40EA-AE05-9A9F8BBB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91FE1-4BB9-4999-9918-72DF60F9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A8329-4B31-4F10-BF6E-003B781C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97862-9F54-4346-81D2-27CBD770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023B5-F027-40F7-9405-11C046A5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27A57-D737-4AF7-AAB5-F22CAFD1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739-3E79-47EC-8BB7-288C339C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599A9-0778-42BF-B1B6-70FC867F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3FCAA-DBE1-4967-B7FC-B1D36022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BB7F5-BD61-4235-B943-F04A0937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D1796-89BC-487E-A358-620CCF9D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11A1A-B828-45BE-9968-90BDFE7B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DD92C-C85C-4C36-A70F-85BD6E56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8199D-356E-4BA4-8676-1BD31392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A4B33-A628-408D-8AB3-91187818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E5CC4-9E19-40F9-8CED-A42687F5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0CDAD-32F5-40F1-BEBA-9A38B190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84C-8ACB-4FB3-B841-CE58739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04ACB-7AE3-4AE9-B4BD-99376F2A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C1FA0-1244-4A50-A417-CA10F63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4A9F-9B7E-4C40-9F55-FB32C923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7FA2E-5282-4CC8-8119-D4019E3A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68DB3-F8CC-4B83-B0EF-087AD079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7EC8A-9D4E-4BF9-828D-65F7BE26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BC719-D64C-4CF6-90D8-E2E8BFAA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FB9DA-B19B-4908-9BAB-F6EDCE5A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95513-61FB-40D6-8E12-07F60DEA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F92FF-4978-4D40-8B3E-7B44C12D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53BF-1953-4AF3-B027-23A1C37B0B83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EF82-9616-4CCB-97EC-4C1E5EC56549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E4BB-D2CB-43F5-8B57-748F135F0D34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A21F-C308-4B21-9F0D-71893C17784E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E073-2557-405E-BB19-F340A2DE57A5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A786-1753-4911-8CF6-5EEDD0834585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7F0A-053F-47FA-BAFB-922B2D737127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B949-30FD-4E81-A185-8F64ABAE9E10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3DBF-207B-4870-AC51-B87577AC06F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DD53-7FAA-46ED-A856-D490E6860F5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54E0-7643-4E3D-93BB-E6631D2B6E2B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1FAE-1EB7-4055-830F-44F33C1EED6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D4E9-6DDA-4F65-BAA9-1162C2FE80A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1966-C4A7-4BEE-8CFF-924E6C2F97E6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89C2-1560-4DEC-8A31-F5605B426E7B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4F53-5C9D-41E4-B4BC-845CB932E84F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A1D1-F6E1-4212-994C-4A6D95A267FE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73120" y="29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Learning Outco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38120" y="1346040"/>
            <a:ext cx="84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w a ray diagram to find the position, nature and size of the image produced by a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onvex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mi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27476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ame rules can be applied to convex mirro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convex mirror images ar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ir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1353960" y="2952720"/>
            <a:ext cx="5751720" cy="328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6" descr="j0237671"/>
          <p:cNvPicPr/>
          <p:nvPr/>
        </p:nvPicPr>
        <p:blipFill>
          <a:blip r:embed="rId1"/>
          <a:stretch/>
        </p:blipFill>
        <p:spPr>
          <a:xfrm>
            <a:off x="2065320" y="3297240"/>
            <a:ext cx="433440" cy="1527120"/>
          </a:xfrm>
          <a:prstGeom prst="rect">
            <a:avLst/>
          </a:prstGeom>
          <a:ln w="0">
            <a:noFill/>
          </a:ln>
        </p:spPr>
      </p:pic>
      <p:grpSp>
        <p:nvGrpSpPr>
          <p:cNvPr id="849" name="Group 20"/>
          <p:cNvGrpSpPr/>
          <p:nvPr/>
        </p:nvGrpSpPr>
        <p:grpSpPr>
          <a:xfrm>
            <a:off x="4754160" y="3511440"/>
            <a:ext cx="1682280" cy="2724120"/>
            <a:chOff x="4754160" y="3511440"/>
            <a:chExt cx="1682280" cy="2724120"/>
          </a:xfrm>
        </p:grpSpPr>
        <p:sp>
          <p:nvSpPr>
            <p:cNvPr id="850" name="AutoShape 9"/>
            <p:cNvSpPr/>
            <p:nvPr/>
          </p:nvSpPr>
          <p:spPr>
            <a:xfrm flipH="1">
              <a:off x="4753800" y="3727800"/>
              <a:ext cx="1567080" cy="231444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8"/>
            <p:cNvSpPr/>
            <p:nvPr/>
          </p:nvSpPr>
          <p:spPr>
            <a:xfrm flipH="1">
              <a:off x="4862520" y="3781800"/>
              <a:ext cx="1551960" cy="22147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10"/>
            <p:cNvSpPr/>
            <p:nvPr/>
          </p:nvSpPr>
          <p:spPr>
            <a:xfrm flipH="1">
              <a:off x="5542200" y="3511440"/>
              <a:ext cx="893880" cy="27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Line 11"/>
          <p:cNvSpPr/>
          <p:nvPr/>
        </p:nvSpPr>
        <p:spPr>
          <a:xfrm flipH="1">
            <a:off x="2087280" y="4835520"/>
            <a:ext cx="432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"/>
          <p:cNvSpPr/>
          <p:nvPr/>
        </p:nvSpPr>
        <p:spPr>
          <a:xfrm>
            <a:off x="6313320" y="4654440"/>
            <a:ext cx="190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3"/>
          <p:cNvSpPr/>
          <p:nvPr/>
        </p:nvSpPr>
        <p:spPr>
          <a:xfrm>
            <a:off x="2238480" y="3903840"/>
            <a:ext cx="2520720" cy="9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5"/>
          <p:cNvSpPr/>
          <p:nvPr/>
        </p:nvSpPr>
        <p:spPr>
          <a:xfrm>
            <a:off x="2247840" y="3868560"/>
            <a:ext cx="287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6"/>
          <p:cNvSpPr/>
          <p:nvPr/>
        </p:nvSpPr>
        <p:spPr>
          <a:xfrm flipH="1">
            <a:off x="2306160" y="4838760"/>
            <a:ext cx="2452680" cy="89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7"/>
          <p:cNvSpPr/>
          <p:nvPr/>
        </p:nvSpPr>
        <p:spPr>
          <a:xfrm>
            <a:off x="2266920" y="3911760"/>
            <a:ext cx="253692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8"/>
          <p:cNvSpPr/>
          <p:nvPr/>
        </p:nvSpPr>
        <p:spPr>
          <a:xfrm flipH="1" flipV="1">
            <a:off x="1601280" y="4419360"/>
            <a:ext cx="3225960" cy="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19" descr="j0237671"/>
          <p:cNvPicPr/>
          <p:nvPr/>
        </p:nvPicPr>
        <p:blipFill>
          <a:blip r:embed="rId2"/>
          <a:stretch/>
        </p:blipFill>
        <p:spPr>
          <a:xfrm>
            <a:off x="5737320" y="4145040"/>
            <a:ext cx="191880" cy="681120"/>
          </a:xfrm>
          <a:prstGeom prst="rect">
            <a:avLst/>
          </a:prstGeom>
          <a:ln w="0">
            <a:noFill/>
          </a:ln>
        </p:spPr>
      </p:pic>
      <p:sp>
        <p:nvSpPr>
          <p:cNvPr id="861" name="Line 21"/>
          <p:cNvSpPr/>
          <p:nvPr/>
        </p:nvSpPr>
        <p:spPr>
          <a:xfrm>
            <a:off x="5124600" y="3867120"/>
            <a:ext cx="1749240" cy="139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22"/>
          <p:cNvSpPr/>
          <p:nvPr/>
        </p:nvSpPr>
        <p:spPr>
          <a:xfrm flipH="1" flipV="1">
            <a:off x="4141800" y="3092400"/>
            <a:ext cx="98280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23"/>
          <p:cNvSpPr/>
          <p:nvPr/>
        </p:nvSpPr>
        <p:spPr>
          <a:xfrm flipV="1">
            <a:off x="4819680" y="4416120"/>
            <a:ext cx="1947960" cy="12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24"/>
          <p:cNvSpPr/>
          <p:nvPr/>
        </p:nvSpPr>
        <p:spPr>
          <a:xfrm flipV="1">
            <a:off x="4749840" y="4133880"/>
            <a:ext cx="1768320" cy="704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2"/>
          <p:cNvSpPr/>
          <p:nvPr/>
        </p:nvSpPr>
        <p:spPr>
          <a:xfrm>
            <a:off x="1538280" y="288936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2"/>
          <p:cNvSpPr/>
          <p:nvPr/>
        </p:nvSpPr>
        <p:spPr>
          <a:xfrm>
            <a:off x="5157720" y="490860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2"/>
          <p:cNvSpPr/>
          <p:nvPr/>
        </p:nvSpPr>
        <p:spPr>
          <a:xfrm>
            <a:off x="6059520" y="44323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7680" y="-38160"/>
            <a:ext cx="77724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Plan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5" descr="j0237671"/>
          <p:cNvPicPr/>
          <p:nvPr/>
        </p:nvPicPr>
        <p:blipFill>
          <a:blip r:embed="rId1"/>
          <a:stretch/>
        </p:blipFill>
        <p:spPr>
          <a:xfrm>
            <a:off x="4064040" y="423720"/>
            <a:ext cx="581040" cy="241164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9" descr="j0238189"/>
          <p:cNvPicPr/>
          <p:nvPr/>
        </p:nvPicPr>
        <p:blipFill>
          <a:blip r:embed="rId2"/>
          <a:stretch/>
        </p:blipFill>
        <p:spPr>
          <a:xfrm rot="16200000">
            <a:off x="3305160" y="4187880"/>
            <a:ext cx="1396800" cy="7905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9" descr="j0237671"/>
          <p:cNvPicPr/>
          <p:nvPr/>
        </p:nvPicPr>
        <p:blipFill>
          <a:blip r:embed="rId3"/>
          <a:stretch/>
        </p:blipFill>
        <p:spPr>
          <a:xfrm flipH="1">
            <a:off x="7437600" y="390600"/>
            <a:ext cx="620640" cy="2577960"/>
          </a:xfrm>
          <a:prstGeom prst="rect">
            <a:avLst/>
          </a:prstGeom>
          <a:ln w="0">
            <a:noFill/>
          </a:ln>
        </p:spPr>
      </p:pic>
      <p:sp>
        <p:nvSpPr>
          <p:cNvPr id="716" name="Line 31"/>
          <p:cNvSpPr/>
          <p:nvPr/>
        </p:nvSpPr>
        <p:spPr>
          <a:xfrm>
            <a:off x="5937120" y="309600"/>
            <a:ext cx="0" cy="469584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2"/>
          <p:cNvSpPr/>
          <p:nvPr/>
        </p:nvSpPr>
        <p:spPr>
          <a:xfrm>
            <a:off x="4241880" y="138924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33"/>
          <p:cNvSpPr/>
          <p:nvPr/>
        </p:nvSpPr>
        <p:spPr>
          <a:xfrm flipH="1">
            <a:off x="4235400" y="274320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34"/>
          <p:cNvSpPr/>
          <p:nvPr/>
        </p:nvSpPr>
        <p:spPr>
          <a:xfrm flipH="1">
            <a:off x="5915160" y="1414440"/>
            <a:ext cx="1666800" cy="1325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35"/>
          <p:cNvSpPr/>
          <p:nvPr/>
        </p:nvSpPr>
        <p:spPr>
          <a:xfrm>
            <a:off x="4226040" y="1389240"/>
            <a:ext cx="1681200" cy="178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36"/>
          <p:cNvSpPr/>
          <p:nvPr/>
        </p:nvSpPr>
        <p:spPr>
          <a:xfrm flipV="1">
            <a:off x="4425840" y="3200400"/>
            <a:ext cx="1492200" cy="1603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37"/>
          <p:cNvSpPr/>
          <p:nvPr/>
        </p:nvSpPr>
        <p:spPr>
          <a:xfrm flipH="1">
            <a:off x="5945040" y="1379520"/>
            <a:ext cx="1681200" cy="178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0"/>
          <p:cNvSpPr/>
          <p:nvPr/>
        </p:nvSpPr>
        <p:spPr>
          <a:xfrm>
            <a:off x="5996160" y="326880"/>
            <a:ext cx="0" cy="4646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2"/>
          <p:cNvSpPr/>
          <p:nvPr/>
        </p:nvSpPr>
        <p:spPr>
          <a:xfrm>
            <a:off x="3525840" y="5264280"/>
            <a:ext cx="22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ight from object reflects into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3"/>
          <p:cNvSpPr/>
          <p:nvPr/>
        </p:nvSpPr>
        <p:spPr>
          <a:xfrm flipH="1">
            <a:off x="6458040" y="3203640"/>
            <a:ext cx="2419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Eye see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ba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 i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laterally i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39720" y="16524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Curved (Concave)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73120" y="4603680"/>
            <a:ext cx="857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 = pole 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a = princip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 = centre of curvature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 = radius of curv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Focal point or focus,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foc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 = c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29"/>
          <p:cNvGrpSpPr/>
          <p:nvPr/>
        </p:nvGrpSpPr>
        <p:grpSpPr>
          <a:xfrm>
            <a:off x="731880" y="1198440"/>
            <a:ext cx="7698960" cy="2995560"/>
            <a:chOff x="731880" y="1198440"/>
            <a:chExt cx="7698960" cy="2995560"/>
          </a:xfrm>
        </p:grpSpPr>
        <p:sp>
          <p:nvSpPr>
            <p:cNvPr id="729" name="Rectangle 5"/>
            <p:cNvSpPr/>
            <p:nvPr/>
          </p:nvSpPr>
          <p:spPr>
            <a:xfrm>
              <a:off x="731880" y="1198440"/>
              <a:ext cx="7698960" cy="299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7"/>
            <p:cNvSpPr/>
            <p:nvPr/>
          </p:nvSpPr>
          <p:spPr>
            <a:xfrm>
              <a:off x="5409720" y="1353960"/>
              <a:ext cx="2079000" cy="26755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8"/>
            <p:cNvSpPr/>
            <p:nvPr/>
          </p:nvSpPr>
          <p:spPr>
            <a:xfrm>
              <a:off x="5227920" y="1489680"/>
              <a:ext cx="2100240" cy="242640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9"/>
            <p:cNvSpPr/>
            <p:nvPr/>
          </p:nvSpPr>
          <p:spPr>
            <a:xfrm>
              <a:off x="4931640" y="1274400"/>
              <a:ext cx="1557720" cy="285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0"/>
            <p:cNvSpPr/>
            <p:nvPr/>
          </p:nvSpPr>
          <p:spPr>
            <a:xfrm flipH="1">
              <a:off x="890280" y="2646720"/>
              <a:ext cx="6367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1"/>
            <p:cNvSpPr/>
            <p:nvPr/>
          </p:nvSpPr>
          <p:spPr>
            <a:xfrm>
              <a:off x="4912560" y="2545200"/>
              <a:ext cx="234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0"/>
            <p:cNvSpPr/>
            <p:nvPr/>
          </p:nvSpPr>
          <p:spPr>
            <a:xfrm>
              <a:off x="2852640" y="2541960"/>
              <a:ext cx="2340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21"/>
            <p:cNvSpPr/>
            <p:nvPr/>
          </p:nvSpPr>
          <p:spPr>
            <a:xfrm>
              <a:off x="2562480" y="2747880"/>
              <a:ext cx="58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22"/>
            <p:cNvSpPr/>
            <p:nvPr/>
          </p:nvSpPr>
          <p:spPr>
            <a:xfrm>
              <a:off x="4548600" y="2698920"/>
              <a:ext cx="83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23"/>
            <p:cNvSpPr/>
            <p:nvPr/>
          </p:nvSpPr>
          <p:spPr>
            <a:xfrm>
              <a:off x="6718680" y="2633760"/>
              <a:ext cx="78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24"/>
            <p:cNvSpPr/>
            <p:nvPr/>
          </p:nvSpPr>
          <p:spPr>
            <a:xfrm>
              <a:off x="2856960" y="2341800"/>
              <a:ext cx="442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25"/>
            <p:cNvSpPr/>
            <p:nvPr/>
          </p:nvSpPr>
          <p:spPr>
            <a:xfrm>
              <a:off x="3172320" y="1962360"/>
              <a:ext cx="37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26"/>
            <p:cNvSpPr/>
            <p:nvPr/>
          </p:nvSpPr>
          <p:spPr>
            <a:xfrm>
              <a:off x="1004760" y="2391840"/>
              <a:ext cx="108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7"/>
            <p:cNvSpPr/>
            <p:nvPr/>
          </p:nvSpPr>
          <p:spPr>
            <a:xfrm flipV="1">
              <a:off x="4954680" y="3065040"/>
              <a:ext cx="23266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28"/>
            <p:cNvSpPr/>
            <p:nvPr/>
          </p:nvSpPr>
          <p:spPr>
            <a:xfrm>
              <a:off x="5723280" y="3052440"/>
              <a:ext cx="8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parallel to the pa is reflected back through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2438280" y="2913120"/>
            <a:ext cx="5005440" cy="360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7"/>
          <p:cNvGrpSpPr/>
          <p:nvPr/>
        </p:nvGrpSpPr>
        <p:grpSpPr>
          <a:xfrm>
            <a:off x="4889520" y="3435480"/>
            <a:ext cx="1601640" cy="2622240"/>
            <a:chOff x="4889520" y="3435480"/>
            <a:chExt cx="1601640" cy="2622240"/>
          </a:xfrm>
        </p:grpSpPr>
        <p:sp>
          <p:nvSpPr>
            <p:cNvPr id="748" name="AutoShape 8"/>
            <p:cNvSpPr/>
            <p:nvPr/>
          </p:nvSpPr>
          <p:spPr>
            <a:xfrm>
              <a:off x="5140080" y="3519360"/>
              <a:ext cx="1351080" cy="24559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9"/>
            <p:cNvSpPr/>
            <p:nvPr/>
          </p:nvSpPr>
          <p:spPr>
            <a:xfrm>
              <a:off x="5021640" y="3644280"/>
              <a:ext cx="1364760" cy="222804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4889520" y="3435480"/>
              <a:ext cx="778680" cy="262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Line 11"/>
          <p:cNvSpPr/>
          <p:nvPr/>
        </p:nvSpPr>
        <p:spPr>
          <a:xfrm flipH="1">
            <a:off x="2642760" y="4746600"/>
            <a:ext cx="3699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2"/>
          <p:cNvSpPr/>
          <p:nvPr/>
        </p:nvSpPr>
        <p:spPr>
          <a:xfrm>
            <a:off x="5288040" y="4570560"/>
            <a:ext cx="1404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3"/>
          <p:cNvSpPr/>
          <p:nvPr/>
        </p:nvSpPr>
        <p:spPr>
          <a:xfrm>
            <a:off x="2774880" y="385128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4"/>
          <p:cNvSpPr/>
          <p:nvPr/>
        </p:nvSpPr>
        <p:spPr>
          <a:xfrm flipH="1">
            <a:off x="4493880" y="3851280"/>
            <a:ext cx="1569960" cy="185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5" descr="j0237671"/>
          <p:cNvPicPr/>
          <p:nvPr/>
        </p:nvPicPr>
        <p:blipFill>
          <a:blip r:embed="rId1"/>
          <a:stretch/>
        </p:blipFill>
        <p:spPr>
          <a:xfrm>
            <a:off x="2658960" y="3287880"/>
            <a:ext cx="306360" cy="147924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22"/>
          <p:cNvSpPr/>
          <p:nvPr/>
        </p:nvSpPr>
        <p:spPr>
          <a:xfrm>
            <a:off x="506268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08120" y="166356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that passes through the focal point on the way to the mirror is reflected back parallel to the 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19"/>
          <p:cNvGrpSpPr/>
          <p:nvPr/>
        </p:nvGrpSpPr>
        <p:grpSpPr>
          <a:xfrm>
            <a:off x="1994040" y="3745080"/>
            <a:ext cx="4898880" cy="2786040"/>
            <a:chOff x="1994040" y="3745080"/>
            <a:chExt cx="4898880" cy="2786040"/>
          </a:xfrm>
        </p:grpSpPr>
        <p:sp>
          <p:nvSpPr>
            <p:cNvPr id="760" name="Rectangle 5"/>
            <p:cNvSpPr/>
            <p:nvPr/>
          </p:nvSpPr>
          <p:spPr>
            <a:xfrm>
              <a:off x="1994040" y="3745080"/>
              <a:ext cx="4898880" cy="278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1" name="Picture 14" descr="j0237671"/>
            <p:cNvPicPr/>
            <p:nvPr/>
          </p:nvPicPr>
          <p:blipFill>
            <a:blip r:embed="rId1"/>
            <a:stretch/>
          </p:blipFill>
          <p:spPr>
            <a:xfrm>
              <a:off x="2568960" y="4031640"/>
              <a:ext cx="367560" cy="113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2" name="Group 6"/>
          <p:cNvGrpSpPr/>
          <p:nvPr/>
        </p:nvGrpSpPr>
        <p:grpSpPr>
          <a:xfrm>
            <a:off x="4770360" y="4149720"/>
            <a:ext cx="1567080" cy="2028960"/>
            <a:chOff x="4770360" y="4149720"/>
            <a:chExt cx="1567080" cy="2028960"/>
          </a:xfrm>
        </p:grpSpPr>
        <p:sp>
          <p:nvSpPr>
            <p:cNvPr id="763" name="AutoShape 7"/>
            <p:cNvSpPr/>
            <p:nvPr/>
          </p:nvSpPr>
          <p:spPr>
            <a:xfrm>
              <a:off x="5015520" y="4214520"/>
              <a:ext cx="1321920" cy="19000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8"/>
            <p:cNvSpPr/>
            <p:nvPr/>
          </p:nvSpPr>
          <p:spPr>
            <a:xfrm>
              <a:off x="4899600" y="4311000"/>
              <a:ext cx="1335240" cy="172368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9"/>
            <p:cNvSpPr/>
            <p:nvPr/>
          </p:nvSpPr>
          <p:spPr>
            <a:xfrm>
              <a:off x="4770360" y="4149720"/>
              <a:ext cx="761760" cy="20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Line 10"/>
          <p:cNvSpPr/>
          <p:nvPr/>
        </p:nvSpPr>
        <p:spPr>
          <a:xfrm flipH="1">
            <a:off x="2587320" y="5176800"/>
            <a:ext cx="3686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1"/>
          <p:cNvSpPr/>
          <p:nvPr/>
        </p:nvSpPr>
        <p:spPr>
          <a:xfrm>
            <a:off x="5173560" y="5040360"/>
            <a:ext cx="1584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2"/>
          <p:cNvSpPr/>
          <p:nvPr/>
        </p:nvSpPr>
        <p:spPr>
          <a:xfrm>
            <a:off x="2716200" y="4484520"/>
            <a:ext cx="349740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3"/>
          <p:cNvSpPr/>
          <p:nvPr/>
        </p:nvSpPr>
        <p:spPr>
          <a:xfrm flipH="1" flipV="1">
            <a:off x="3242880" y="5484600"/>
            <a:ext cx="2903400" cy="1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2"/>
          <p:cNvSpPr/>
          <p:nvPr/>
        </p:nvSpPr>
        <p:spPr>
          <a:xfrm>
            <a:off x="502452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800" spc="-1" strike="noStrike" u="sng">
                <a:solidFill>
                  <a:srgbClr val="000000"/>
                </a:solidFill>
                <a:uFillTx/>
                <a:latin typeface="Arial"/>
              </a:rPr>
              <a:t>Ray Diagra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43040" y="16192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ule 3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An incident ray headed towards the pole reflects back at an equal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1477800" y="3411360"/>
            <a:ext cx="5034240" cy="290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6"/>
          <p:cNvGrpSpPr/>
          <p:nvPr/>
        </p:nvGrpSpPr>
        <p:grpSpPr>
          <a:xfrm>
            <a:off x="3927600" y="3817800"/>
            <a:ext cx="1611000" cy="2113200"/>
            <a:chOff x="3927600" y="3817800"/>
            <a:chExt cx="1611000" cy="2113200"/>
          </a:xfrm>
        </p:grpSpPr>
        <p:sp>
          <p:nvSpPr>
            <p:cNvPr id="775" name="AutoShape 7"/>
            <p:cNvSpPr/>
            <p:nvPr/>
          </p:nvSpPr>
          <p:spPr>
            <a:xfrm>
              <a:off x="4179600" y="3885480"/>
              <a:ext cx="1359000" cy="197892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8"/>
            <p:cNvSpPr/>
            <p:nvPr/>
          </p:nvSpPr>
          <p:spPr>
            <a:xfrm>
              <a:off x="4060440" y="3985920"/>
              <a:ext cx="1373040" cy="17953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9"/>
            <p:cNvSpPr/>
            <p:nvPr/>
          </p:nvSpPr>
          <p:spPr>
            <a:xfrm>
              <a:off x="3927600" y="3817800"/>
              <a:ext cx="78336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Line 10"/>
          <p:cNvSpPr/>
          <p:nvPr/>
        </p:nvSpPr>
        <p:spPr>
          <a:xfrm flipH="1">
            <a:off x="1684440" y="488952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1"/>
          <p:cNvSpPr/>
          <p:nvPr/>
        </p:nvSpPr>
        <p:spPr>
          <a:xfrm>
            <a:off x="4343400" y="4746600"/>
            <a:ext cx="1584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2"/>
          <p:cNvSpPr/>
          <p:nvPr/>
        </p:nvSpPr>
        <p:spPr>
          <a:xfrm>
            <a:off x="1816200" y="4167360"/>
            <a:ext cx="362736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3"/>
          <p:cNvSpPr/>
          <p:nvPr/>
        </p:nvSpPr>
        <p:spPr>
          <a:xfrm flipH="1">
            <a:off x="2073240" y="4898880"/>
            <a:ext cx="336888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5" descr="j0237671"/>
          <p:cNvPicPr/>
          <p:nvPr/>
        </p:nvPicPr>
        <p:blipFill>
          <a:blip r:embed="rId1"/>
          <a:stretch/>
        </p:blipFill>
        <p:spPr>
          <a:xfrm>
            <a:off x="1684440" y="3691080"/>
            <a:ext cx="384120" cy="120492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22"/>
          <p:cNvSpPr/>
          <p:nvPr/>
        </p:nvSpPr>
        <p:spPr>
          <a:xfrm>
            <a:off x="3633840" y="48322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2"/>
          <p:cNvSpPr/>
          <p:nvPr/>
        </p:nvSpPr>
        <p:spPr>
          <a:xfrm>
            <a:off x="5329080" y="46609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165240" y="603000"/>
            <a:ext cx="9169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three combined allow you to find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is example the image is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vert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iminish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1487520" y="3076560"/>
            <a:ext cx="6026040" cy="333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7" descr="j0237671"/>
          <p:cNvPicPr/>
          <p:nvPr/>
        </p:nvPicPr>
        <p:blipFill>
          <a:blip r:embed="rId1"/>
          <a:stretch/>
        </p:blipFill>
        <p:spPr>
          <a:xfrm>
            <a:off x="2195640" y="3419640"/>
            <a:ext cx="452160" cy="136188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8"/>
          <p:cNvGrpSpPr/>
          <p:nvPr/>
        </p:nvGrpSpPr>
        <p:grpSpPr>
          <a:xfrm>
            <a:off x="4902120" y="3560760"/>
            <a:ext cx="1928520" cy="2428560"/>
            <a:chOff x="4902120" y="3560760"/>
            <a:chExt cx="1928520" cy="2428560"/>
          </a:xfrm>
        </p:grpSpPr>
        <p:sp>
          <p:nvSpPr>
            <p:cNvPr id="789" name="AutoShape 9"/>
            <p:cNvSpPr/>
            <p:nvPr/>
          </p:nvSpPr>
          <p:spPr>
            <a:xfrm>
              <a:off x="5203800" y="3638520"/>
              <a:ext cx="1626840" cy="22744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10"/>
            <p:cNvSpPr/>
            <p:nvPr/>
          </p:nvSpPr>
          <p:spPr>
            <a:xfrm>
              <a:off x="5061240" y="3754080"/>
              <a:ext cx="1643400" cy="20635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1"/>
            <p:cNvSpPr/>
            <p:nvPr/>
          </p:nvSpPr>
          <p:spPr>
            <a:xfrm>
              <a:off x="4902120" y="3560760"/>
              <a:ext cx="937800" cy="24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Line 12"/>
          <p:cNvSpPr/>
          <p:nvPr/>
        </p:nvSpPr>
        <p:spPr>
          <a:xfrm flipH="1">
            <a:off x="2217240" y="4791240"/>
            <a:ext cx="453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3"/>
          <p:cNvSpPr/>
          <p:nvPr/>
        </p:nvSpPr>
        <p:spPr>
          <a:xfrm>
            <a:off x="4699080" y="4641840"/>
            <a:ext cx="19080" cy="3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4"/>
          <p:cNvSpPr/>
          <p:nvPr/>
        </p:nvSpPr>
        <p:spPr>
          <a:xfrm>
            <a:off x="2374920" y="3960720"/>
            <a:ext cx="4102200" cy="14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5"/>
          <p:cNvSpPr/>
          <p:nvPr/>
        </p:nvSpPr>
        <p:spPr>
          <a:xfrm flipH="1" flipV="1">
            <a:off x="2344320" y="5438880"/>
            <a:ext cx="4071960" cy="1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6"/>
          <p:cNvSpPr/>
          <p:nvPr/>
        </p:nvSpPr>
        <p:spPr>
          <a:xfrm>
            <a:off x="2386080" y="3952800"/>
            <a:ext cx="394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7"/>
          <p:cNvSpPr/>
          <p:nvPr/>
        </p:nvSpPr>
        <p:spPr>
          <a:xfrm flipH="1">
            <a:off x="2768400" y="3952800"/>
            <a:ext cx="3562200" cy="185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8"/>
          <p:cNvSpPr/>
          <p:nvPr/>
        </p:nvSpPr>
        <p:spPr>
          <a:xfrm>
            <a:off x="2386080" y="3952800"/>
            <a:ext cx="426564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9"/>
          <p:cNvSpPr/>
          <p:nvPr/>
        </p:nvSpPr>
        <p:spPr>
          <a:xfrm flipH="1">
            <a:off x="2525400" y="4791240"/>
            <a:ext cx="4125960" cy="82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32" descr="j0237671"/>
          <p:cNvPicPr/>
          <p:nvPr/>
        </p:nvPicPr>
        <p:blipFill>
          <a:blip r:embed="rId2"/>
          <a:stretch/>
        </p:blipFill>
        <p:spPr>
          <a:xfrm flipH="1" rot="10800000">
            <a:off x="3371760" y="4797360"/>
            <a:ext cx="358920" cy="10764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2"/>
          <p:cNvSpPr/>
          <p:nvPr/>
        </p:nvSpPr>
        <p:spPr>
          <a:xfrm>
            <a:off x="4224240" y="43369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2"/>
          <p:cNvSpPr/>
          <p:nvPr/>
        </p:nvSpPr>
        <p:spPr>
          <a:xfrm>
            <a:off x="6643800" y="458460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2"/>
          <p:cNvSpPr/>
          <p:nvPr/>
        </p:nvSpPr>
        <p:spPr>
          <a:xfrm>
            <a:off x="1633680" y="3041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2"/>
          <p:cNvSpPr/>
          <p:nvPr/>
        </p:nvSpPr>
        <p:spPr>
          <a:xfrm>
            <a:off x="2871720" y="586116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cave Mirr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ncave (or converging)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irrors focus light at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3"/>
          <p:cNvSpPr/>
          <p:nvPr/>
        </p:nvSpPr>
        <p:spPr>
          <a:xfrm>
            <a:off x="700200" y="2724120"/>
            <a:ext cx="7699320" cy="32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8"/>
          <p:cNvGrpSpPr/>
          <p:nvPr/>
        </p:nvGrpSpPr>
        <p:grpSpPr>
          <a:xfrm>
            <a:off x="4470480" y="3198960"/>
            <a:ext cx="2463480" cy="2391840"/>
            <a:chOff x="4470480" y="3198960"/>
            <a:chExt cx="2463480" cy="2391840"/>
          </a:xfrm>
        </p:grpSpPr>
        <p:sp>
          <p:nvSpPr>
            <p:cNvPr id="809" name="AutoShape 9"/>
            <p:cNvSpPr/>
            <p:nvPr/>
          </p:nvSpPr>
          <p:spPr>
            <a:xfrm>
              <a:off x="4855680" y="3275640"/>
              <a:ext cx="2078280" cy="224028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4673880" y="3389400"/>
              <a:ext cx="2099160" cy="203220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1"/>
            <p:cNvSpPr/>
            <p:nvPr/>
          </p:nvSpPr>
          <p:spPr>
            <a:xfrm>
              <a:off x="4470480" y="3198960"/>
              <a:ext cx="1197720" cy="239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2"/>
          <p:cNvSpPr/>
          <p:nvPr/>
        </p:nvSpPr>
        <p:spPr>
          <a:xfrm flipH="1">
            <a:off x="1015560" y="4394160"/>
            <a:ext cx="5689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3"/>
          <p:cNvSpPr/>
          <p:nvPr/>
        </p:nvSpPr>
        <p:spPr>
          <a:xfrm>
            <a:off x="5600880" y="4205160"/>
            <a:ext cx="2376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4"/>
          <p:cNvSpPr/>
          <p:nvPr/>
        </p:nvSpPr>
        <p:spPr>
          <a:xfrm>
            <a:off x="1197000" y="3957480"/>
            <a:ext cx="54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5"/>
          <p:cNvSpPr/>
          <p:nvPr/>
        </p:nvSpPr>
        <p:spPr>
          <a:xfrm>
            <a:off x="1219320" y="3578400"/>
            <a:ext cx="50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6"/>
          <p:cNvSpPr/>
          <p:nvPr/>
        </p:nvSpPr>
        <p:spPr>
          <a:xfrm>
            <a:off x="1241280" y="4830840"/>
            <a:ext cx="53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7"/>
          <p:cNvSpPr/>
          <p:nvPr/>
        </p:nvSpPr>
        <p:spPr>
          <a:xfrm>
            <a:off x="1195560" y="5210280"/>
            <a:ext cx="513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9"/>
          <p:cNvSpPr/>
          <p:nvPr/>
        </p:nvSpPr>
        <p:spPr>
          <a:xfrm flipH="1">
            <a:off x="4584240" y="3578400"/>
            <a:ext cx="1693800" cy="193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0"/>
          <p:cNvSpPr/>
          <p:nvPr/>
        </p:nvSpPr>
        <p:spPr>
          <a:xfrm flipH="1">
            <a:off x="4019040" y="3940200"/>
            <a:ext cx="259740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1"/>
          <p:cNvSpPr/>
          <p:nvPr/>
        </p:nvSpPr>
        <p:spPr>
          <a:xfrm flipH="1" flipV="1">
            <a:off x="4087800" y="3711240"/>
            <a:ext cx="255096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2"/>
          <p:cNvSpPr/>
          <p:nvPr/>
        </p:nvSpPr>
        <p:spPr>
          <a:xfrm flipH="1" flipV="1">
            <a:off x="4560480" y="3141720"/>
            <a:ext cx="1738440" cy="20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5214960" y="37846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542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Convex Mirror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23960" y="108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mirrors have a focal point behind the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vex (or diverging) mirrors spread the light rays apart so that they appear to have come from the focal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4"/>
          <p:cNvSpPr/>
          <p:nvPr/>
        </p:nvSpPr>
        <p:spPr>
          <a:xfrm>
            <a:off x="2023920" y="3657600"/>
            <a:ext cx="5088240" cy="290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4669920" y="4363920"/>
            <a:ext cx="1616400" cy="1600200"/>
            <a:chOff x="4669920" y="4363920"/>
            <a:chExt cx="1616400" cy="1600200"/>
          </a:xfrm>
        </p:grpSpPr>
        <p:sp>
          <p:nvSpPr>
            <p:cNvPr id="827" name="AutoShape 5"/>
            <p:cNvSpPr/>
            <p:nvPr/>
          </p:nvSpPr>
          <p:spPr>
            <a:xfrm flipH="1">
              <a:off x="4669560" y="4479480"/>
              <a:ext cx="1567080" cy="1359720"/>
            </a:xfrm>
            <a:prstGeom prst="flowChartDelay">
              <a:avLst/>
            </a:prstGeom>
            <a:solidFill>
              <a:srgbClr val="ffffff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6"/>
            <p:cNvSpPr/>
            <p:nvPr/>
          </p:nvSpPr>
          <p:spPr>
            <a:xfrm flipH="1">
              <a:off x="4767840" y="4581720"/>
              <a:ext cx="1349280" cy="118116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7"/>
            <p:cNvSpPr/>
            <p:nvPr/>
          </p:nvSpPr>
          <p:spPr>
            <a:xfrm flipH="1">
              <a:off x="5392080" y="4363920"/>
              <a:ext cx="89424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Line 8"/>
          <p:cNvSpPr/>
          <p:nvPr/>
        </p:nvSpPr>
        <p:spPr>
          <a:xfrm>
            <a:off x="2075040" y="5156280"/>
            <a:ext cx="4884480" cy="12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9"/>
          <p:cNvSpPr/>
          <p:nvPr/>
        </p:nvSpPr>
        <p:spPr>
          <a:xfrm>
            <a:off x="2309760" y="4876920"/>
            <a:ext cx="24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0"/>
          <p:cNvSpPr/>
          <p:nvPr/>
        </p:nvSpPr>
        <p:spPr>
          <a:xfrm>
            <a:off x="2292480" y="4584600"/>
            <a:ext cx="269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1"/>
          <p:cNvSpPr/>
          <p:nvPr/>
        </p:nvSpPr>
        <p:spPr>
          <a:xfrm>
            <a:off x="2360520" y="5410080"/>
            <a:ext cx="232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2"/>
          <p:cNvSpPr/>
          <p:nvPr/>
        </p:nvSpPr>
        <p:spPr>
          <a:xfrm>
            <a:off x="2327400" y="5715000"/>
            <a:ext cx="26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3"/>
          <p:cNvSpPr/>
          <p:nvPr/>
        </p:nvSpPr>
        <p:spPr>
          <a:xfrm>
            <a:off x="6151680" y="5041800"/>
            <a:ext cx="17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4"/>
          <p:cNvSpPr/>
          <p:nvPr/>
        </p:nvSpPr>
        <p:spPr>
          <a:xfrm>
            <a:off x="4971960" y="4584600"/>
            <a:ext cx="1179720" cy="571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5"/>
          <p:cNvSpPr/>
          <p:nvPr/>
        </p:nvSpPr>
        <p:spPr>
          <a:xfrm>
            <a:off x="4719600" y="4876920"/>
            <a:ext cx="1432080" cy="27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6"/>
          <p:cNvSpPr/>
          <p:nvPr/>
        </p:nvSpPr>
        <p:spPr>
          <a:xfrm flipV="1">
            <a:off x="4719600" y="5155920"/>
            <a:ext cx="1432080" cy="25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7"/>
          <p:cNvSpPr/>
          <p:nvPr/>
        </p:nvSpPr>
        <p:spPr>
          <a:xfrm flipV="1">
            <a:off x="5006880" y="5156280"/>
            <a:ext cx="1144800" cy="55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9"/>
          <p:cNvSpPr/>
          <p:nvPr/>
        </p:nvSpPr>
        <p:spPr>
          <a:xfrm flipH="1" flipV="1">
            <a:off x="3404880" y="3809880"/>
            <a:ext cx="1601640" cy="78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0"/>
          <p:cNvSpPr/>
          <p:nvPr/>
        </p:nvSpPr>
        <p:spPr>
          <a:xfrm flipH="1" flipV="1">
            <a:off x="2612520" y="4419720"/>
            <a:ext cx="214020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1"/>
          <p:cNvSpPr/>
          <p:nvPr/>
        </p:nvSpPr>
        <p:spPr>
          <a:xfrm flipH="1">
            <a:off x="2495160" y="5397480"/>
            <a:ext cx="225756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2"/>
          <p:cNvSpPr/>
          <p:nvPr/>
        </p:nvSpPr>
        <p:spPr>
          <a:xfrm flipH="1">
            <a:off x="3641400" y="5676840"/>
            <a:ext cx="1398600" cy="66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5919840" y="46990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0:23Z</dcterms:created>
  <dc:creator>Cashmere High School</dc:creator>
  <dc:description/>
  <dc:language>en-US</dc:language>
  <cp:lastModifiedBy>Leith</cp:lastModifiedBy>
  <cp:lastPrinted>2003-11-11T21:01:29Z</cp:lastPrinted>
  <dcterms:modified xsi:type="dcterms:W3CDTF">2012-03-12T08:28:16Z</dcterms:modified>
  <cp:revision>44</cp:revision>
  <dc:subject/>
  <dc:title>Light &amp; Waves</dc:title>
</cp:coreProperties>
</file>